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854-D83F-405D-9439-B9A67CE7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836-5349-4DA0-AC9C-5A67A543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10C8F-02F7-4BB8-A6C7-7B84C5F8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57CC8-0816-4092-8ED4-4ECDD91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4A898-2BC9-4424-A343-4ABAC52B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9D209-BEAF-4926-8966-C1E9596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6BC28-291D-4BC9-B4C6-C312E2C7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E36A4-270C-4DEF-B3F1-4A16EAD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C7A5E-380B-43F6-9F43-1F371B20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AB24B-BA01-4490-9010-64DFAC22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2CB54-12B3-495E-84E7-C0A64514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BA778-F6D1-49BF-8EE0-A6A18700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B97-BA81-44BC-BF00-6E2BD440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72501-EB7D-4BFD-98C9-AB0896BA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6EE8-D83F-45D0-9C94-2864EA1D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8F041-52BD-402C-9F61-70A803B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92CF8-410B-401D-BD49-9AE3ABAF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1EDA5-CBFE-48AF-A716-549D14A2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53BF8-71AE-48A4-B55B-3B7CA6D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94B00-9460-436F-8892-7696442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B2B3F-0B29-4C7F-9D7C-D258E9C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67006-2674-48C2-8795-E0316AF9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DBAED-DFD3-4DC9-9D9C-01BF697A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F39-9061-4772-A4A7-BBB8ADE8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AEB94-EF8D-4F1C-AB39-7AFFE6DE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06EA-EEA7-4231-856B-FB994CBF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807F6-06CA-4EA8-8106-8B208C97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C8E41-BABB-4147-9F17-B1A0E73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EF404-3B1B-46F1-BA83-8C53550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6E80-4EC8-48A9-B923-A8B6376C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CEE9B-DAD6-4487-AF57-EC4B560A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AE0E5-7A0F-4813-84C7-A5E2B1F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94D4B-8F46-4250-AB0F-41F3DC03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8780D-3F20-4C05-A7AC-EAA74EB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ABAC-8DD6-4C62-B413-C276DB5B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AE4F-C670-4E44-9713-B8E2DCC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D0262-67A8-4DA1-8491-27D9673B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7FD9-C5E8-4208-B371-EBD4BBFF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F253C-F187-4ED0-8932-27FFEF0F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19CAD-E521-4911-8105-0B21204E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BE206-DC37-44FE-825F-BDEFC523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71FD2-6CBD-4DDD-B494-E7E89E6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ECA75-845C-4EE4-9B46-C2CCD70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C8FE2-62C9-435E-884C-CB9FDA08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E6DAC-B422-436A-A590-6AE4720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FB08-1FF3-4F06-B4D1-7C27C3D9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29D3C-6C84-4112-B2C1-70767E4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8D35C-D179-4AA6-B0D9-BFD8CC0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2D24-8DA2-4BBC-ABA1-9FF4F5C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78605-E1D1-428A-B232-AD3BA2AA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058F8-CEBC-4798-9744-38264CD7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F2640-7881-4B20-9222-D1CAEEEE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F4F86-5FB6-4658-A61F-E90AD8DE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E1655-D78E-482F-BC47-109BFD7E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9DA73-05B3-4DA6-9E67-D2813955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E2A54-6824-4297-9512-0E08E5B2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5C65-8034-4CC1-B49F-7BB5202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38297-4805-42C7-BE4C-7BA7A93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2A6F4-061C-41DF-A417-A68C7F8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C300A-DB2D-4C26-A65A-4980BD2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57CD5-86F5-4A6A-9DD0-0E271C75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0DF13-673D-44E7-9DDD-364A410F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A872D-044B-4E32-AC43-1ABB6157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AD43D-7FF5-411D-95F5-5B427E75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66AE1-A18D-41E0-9B99-C53E393C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B943B-7829-4168-A1D9-F071B832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2908A-328D-4F1D-AE89-42BD3987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2F94-8A6A-4FC8-BC48-52E2A306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181CA-ADF3-456A-98F2-6B8202C7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2A783-5221-40DB-9D2E-DA1EEFD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3F951-8197-486A-8203-77D374A1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DA7C3-08C7-49F4-A211-F90D532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8041E-7F64-498C-A9E0-41ABA9DE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EE857-91C5-4306-BABA-B7DBA3E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9D209-F105-4AAB-8ED5-2CD27D3B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2E2AB-7D9F-426E-B1E9-16CED692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008C2-1786-428A-8F57-63C825C1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C6C28-CE6E-41FD-967D-1D2457E4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DAF4-F9B3-4C0E-AE62-6FE8372B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A9B16-B809-411D-AC1D-10526AAE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DD73D-A8CE-428F-AA88-D77B75C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80C5B-C434-4030-A5AF-8D9254A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42ED9-314F-47C4-97FE-B872CE26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D429C-947D-44A3-8D9B-B60B61F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7D868-36A2-4CEF-9981-4C17E0C9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1D5A6-2855-40CB-A5D5-224ED16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ED867-595B-4BBC-AA67-6A51244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92048-E3F7-47C3-94D3-A7EE8E26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49F58-C417-47BD-8B1C-4D988681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D541-4695-49B6-8B95-281992EA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818B8-804F-42DC-BBBD-EB0BCA27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4CE8A-1997-4692-A163-2EC2A3CD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EF8E4-3BC8-4E5B-B7D8-753E6ACD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C7713-D9B8-4C16-BC91-B4133C2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A17CC-BB9F-4D72-A2E2-8581E96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014A6-0A86-45D5-B15F-99114B1B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92B79-055B-49AA-956E-53529337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F8929-12E9-4FCE-AD6B-8FA8FA4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462A1-36D9-4F16-A56F-4D6B00D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7777D-4744-443B-A0DA-E1E6814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FD31-E9F2-4186-89C4-40F9741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EFA7E-F7C5-44F5-ABCF-C54F2DF0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4F953-34D6-45CA-8043-DD66D53B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43D8A-A3FC-4609-8F3E-98958F5B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DDA83-DBBB-4559-8C31-EB9318D5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B9489-76CC-40D6-B446-85E0889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ADB89-A659-4ED1-AF80-7E0C18C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56EC1-7588-434D-8572-3FF4FD9E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80E70-8FD5-424E-A4C3-0DE2A278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DC973-194F-4FC0-A6D0-0631EA42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D9629-01EC-46A8-8674-78ADEAE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B0D-F33A-4471-875A-1F980648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A1CA-5DDD-49DF-85BD-707862E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1AC5B-4481-4F1A-8F4E-6367A8C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2CB09-A475-4D68-B755-39CC7D25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CF3CC-B7AB-4257-B3AA-8A606F46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16ADE-6164-4CD9-9449-47034857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3B4AF-EB78-4308-8504-A58CF5B5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383CB-EDF8-4910-86B6-E42B2811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99851-9C1C-46FA-90B8-7D46DA49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208A9-ECDB-444E-8144-F3AB7156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6CC25-3936-483F-8FEF-69632AB3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838B3-353E-43AF-B1B2-8285B8A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52BF-58A4-44A9-8328-E23E044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A83661-5E3E-441D-96B9-D137AA82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D516B-87F6-4575-A63D-CD5A6A0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2687CA-3B3A-4109-A918-5A1E7B72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165B1-0716-4A30-A557-63E730E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ED909-B639-4C37-AED5-B01D3EDA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5D515-1730-4496-9EAF-9B15947D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B1D4D-4627-4C56-91F4-B408429C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DD537-4FAE-4693-ABC9-48BD6E35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9CAB1-A5BD-455C-B790-A89A5681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7FE3B4-2649-4865-A904-D6C2DECB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881F-A468-4833-9C2F-4A4B3B24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B46777-7B5D-46B4-B823-97338536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BD329-849C-4789-BCDE-FC79963F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AF27D-C354-40FB-AF51-BD0B1C8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BACB5-954D-490D-8C2A-777BCD2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C1B10-9C8F-4517-A9C6-2053645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E17E6-49E9-477B-9C2D-E82DEAA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33075-897B-41E9-B91B-435FE52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E26DC-C535-4826-9F0B-CE6F7A69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A79761-E505-4711-AF45-8004EEE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8805F-C806-436E-8A1B-23283E89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60C0-B97D-42CE-8D63-D9A13C1D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739E6-FC60-4167-8FF9-2AB70885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DBCC4-E667-48AD-B15C-B22F2FBC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98EFC-7277-4729-9D52-9614764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76F1B5-A7B0-4B43-B388-0AB12C1A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0251A2-5C84-41BF-A009-AEFC5A5C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338C1-3E66-4202-B153-F37F0DA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1BB55-E7E4-4EEF-A574-A9F9615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455F6-7833-4C53-8D12-467DBE5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5A56B-5E99-47F1-9D13-2019BA84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6800D-DDBA-4BF8-A857-DBAF6614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6E76-EEB3-4038-A721-D6EB2950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4563C-5481-4925-A9A3-E7950769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F4D97-B201-4A1C-8FCC-8C532133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9C252-D6A7-43E0-AB6C-E22852B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2D146-B78E-4DD6-833D-26018540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20EE2-BB94-4E0C-9ED3-367B74E1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EC25B1-45B7-4148-B6E8-5FCDF6BF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901FA-36E6-47A5-88D2-8913793F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BBC36-28BD-4578-AAF2-61D1D4A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BFEB3-980A-40FE-90F5-A532ADD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F79880-FA89-45EB-9FA8-AA086517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BC5E-800E-415B-9A06-91360131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4730E-CF09-4530-BE95-BD784F9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C678B-F6A0-486E-B7AF-4C608A4B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8A969-889A-4F5C-80CE-E7958B79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7C927-BE64-4486-A28D-44162194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F817EC-A91E-43C5-A1C6-4B6E3316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B843AB-0DEB-41EC-9465-C82BD94D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3B1DB-9BB1-45A4-8748-9488106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D6EEA5-2D2C-469F-8447-C1E9D7F8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91D3A-3EA6-43EA-A8AD-D72ED66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59AC1-3CD6-4CD0-B65E-08BC560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D400-1E5A-401C-9FA4-4BA3F55D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5EA784-7412-4DB7-8549-18DF01D5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9240F9-F3BC-42B8-9552-2CCE62BC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0E26E4-D2D5-4DF0-8C19-AC1E9685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A9D646-559A-4068-8F33-CB9905CB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75C31B-8AD9-4FA0-894C-F7950B3E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61A79-430E-432C-9140-45F9022F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D0628F-9AC6-47C2-92CB-2B1F0693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CC1CD3-B3B8-49D7-88BB-84EF5A5A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A07FA-E767-43C2-8505-883A72FD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463153-589B-4BC7-B8D9-3BE25C64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23CE-FF52-4941-9EC2-FD96CDB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BAF8F9-6132-4215-A0D3-0C02E8D3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75A1E2-E2CB-41AB-B023-259FCB7F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A8F0DA-2857-43C3-AA46-F91D19F9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83CD5-6C5B-481C-9ED6-2E7C68E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3B75E3-9342-4F82-A1C4-01B9122A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69D4C0-30E5-42EC-9922-8461178C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09C200-980E-4EEB-8C46-4DA7F7BF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92377A-9866-4660-94E9-4FB07A14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7CD5AD-AAC1-4D1A-80A0-B928BF3B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EAEEFD-4679-4966-BA13-51D950C8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62E6-8731-42DE-A843-C1F19552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C59F97-2215-427B-B12F-189F0C2F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3339D7-EF0C-444F-9149-3A691A04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853C1E-62FA-4F0E-96DE-42C919F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CD6383-8254-4526-9AD9-D2B1278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F2526C-79EC-4BB0-B599-F173C8CB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DDCD7-BE4E-4A1F-94D5-40AA7DC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496D84-0911-4303-AC8E-5D9156D3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522AF9-4694-48A7-BD05-64A40B37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567BE6-0F2E-402F-B8FF-480A5E52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6F4D57-54B2-474A-9CF8-A3F6D593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CCB2-5D53-4D6D-BA29-78F47AEF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C0F9B7-3168-4C9E-B084-6AFB5DA8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11E31E-919A-49FF-9509-4AFB023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77F452-81EC-415E-99E4-67FBB727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F03720-3AED-4669-994B-7073F593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8DE3E2-7DB3-4A2A-8EDE-D37EFDB2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4B9CF6-C6E2-412D-84F6-60E5C36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2F6E84-5B05-4D33-907D-9107B9A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023D17-7714-4047-ADA2-9A11C3F4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4E55A3-643D-4DD9-A65E-D5F65FB7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9AB714-FA79-4112-86E9-05F559BB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E63-26DA-4DDB-A0ED-4D6FF9DE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5ACF-6717-4F34-AA67-DBF00AF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584724-D639-44B0-916E-C8DF6042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CFAC40-AD53-4A9C-A0A9-3ECF4379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7350F1-3A8D-41A1-B674-D44FEB87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1566BD-E995-4146-8A1A-13158DC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03C77F-C440-41B0-A715-C129260F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1982D2-14B9-45D6-BEC1-03C2350F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0B47AD-4044-4626-AA47-31500774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FB3A20-A991-4001-83C6-7EF760B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D69398-7ACA-4A6F-8FBF-43FDC3EA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C135F3-5F6B-4C94-9B58-BD5ED15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D294-0557-43E1-8459-D1D4C69A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717968-C638-478F-90A0-4EE02D6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681169-A0B6-4A5D-875F-75A384F8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83C2D4-0DE7-4637-A855-0FAC829C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E04A2D-C4AC-4551-A9AE-157F8BEB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478154-4D07-4214-8D42-F9C9FF57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E04531-8AD4-4665-8492-DC67CCC4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885B50-2710-4D03-9A60-E48B836D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F02ACF-0499-4ACF-AB9F-D47830CD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70FD38-9255-4D0E-ACE1-B8DFBF1C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6651F5-F393-42FF-80D7-644411C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A509-600D-467E-A7FA-3C10B361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D4F11B-9411-4085-B063-D8332B6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18672B-D893-4899-9907-FA1B3B23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63B05C-6286-48A3-B90B-B231B344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EEC9CF-A433-4866-A408-EDFC9DA5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A25D24-096A-4F26-A61E-217B6932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3A5403-4917-4D9F-89D7-F7EA0D25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AC207E-AC5E-4873-8D8D-D212FB85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95BF15-AC3A-42C3-A589-EB500EA1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7FE76A-8123-4BBF-A0E9-1E3F904B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BD4A7C-3FD5-4AB2-BFBF-3B85F1D1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6CDEF-8908-4A1B-B576-F05C3F68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E0EDAC-8608-4A83-93BA-CCB1042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0A8527-BA47-48FA-B7B2-F0CE268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D9BA34-1185-46F2-B26C-4D326AF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2EAA70-DA56-4EBA-B71A-00DE23B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5A4D1F-31BA-41E5-B0BA-3C9F75E4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1F7B7E-93B8-4E4F-89BE-CA3B452A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1B605B-674C-442A-9CF1-50DC697F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82DC8B-69EB-49EA-B247-EC8DD8A9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3E666A-5E53-4233-AD6D-93D7B355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3C1A52-1E38-47B9-A73A-1D8DE9FD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27B9-C366-4C59-B1D1-B620107C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438248-C23E-4A66-929E-9FD0386A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F0B121-140B-49B6-8B90-01051F81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68F84B-0BD7-405B-83D9-6497ADA6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37ED19-E0B7-4A51-9C90-34ADDD5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7743BC-359C-4176-873A-390751A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A40DC9-D6E6-4039-AC74-7806C56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699478-995E-4258-98D8-2C64D0C6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5366C6-2E3C-4059-B601-50F96CD9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0313AE-7E9D-40CD-A231-E2AD4F5F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811F46-FE18-4AD4-9EAD-F3C85AFF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4E5E-F3C7-4E3C-89A4-64F8FDDD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897BE6-2EB5-4BD8-8947-6CC2A57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2E5A9F-ACBD-4136-878A-BEE7F1CE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9A5621-FD4E-4CB6-8176-23844343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A5300C-690D-4C9A-A5C6-2FD4951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F3DC7B-BF91-4C8A-92E5-16D83CB6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CDC863-60D9-4435-BCB5-051419B2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3F3D44-BC9F-48C7-9E50-A289C3F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4F17C4-FC5D-46D5-8AC1-0E5BC59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E25BE4-2520-486C-8073-55A0FF71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54C40B-A33B-4BF6-801D-D832BD8E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5484-8667-439E-807C-586D2ACD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98E11E-CA48-4531-BA30-08830245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E51357-563A-451D-8BA9-42C7A0DF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6B72BA-E7EB-4A58-AFF6-780C3A31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6E9A90-5BC9-4B01-824E-BCAAB8BA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C1EED5-01B6-4319-9BD4-F52B26F0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0E7720-0F24-4B11-934C-5A6DF9C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EB010A-AB47-435B-9493-C92FEE48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9ED045-904D-447F-AC46-B03E7C88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3AFDE4-31DA-4447-B584-0BFA668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C30CCF-1073-4AC1-A953-48D29AE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0BB5-47BD-4019-BD7D-3524C068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12A7F1-7955-49D6-AC98-E53C2C7D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86F532-180F-44A1-99B1-214A8234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219B5B-6E59-4E1F-9331-371F047C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A128-1F08-4647-82CA-12B04D9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7092-30EC-4FE2-846C-530F07A5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FB5-8A63-4B2E-9EB6-58D10DFE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4908-56FF-4BF9-A259-99DB5733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C352-110A-4288-9F11-6785381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EAEB-5E28-44F0-B775-B1891D74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1B00-0EDA-4B7F-903E-19730815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C5B1-58DB-4504-8431-86C3DD2D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00F4-DEEB-40CB-8538-F86B207B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6D45-A04D-47B4-B0D6-B5F3B2DB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85D6-C7FD-4346-B742-651FF1EC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EF9D-FDAC-48F8-BB9F-03548573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FD1A-76CF-466F-B3C7-531602F3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D3A-6825-4A14-B83C-C4182E2B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245A-04C9-4ED9-BEBF-A692A61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2D41-02B4-49AC-8161-A3755D5C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254F-EDF0-4023-B721-376C84DB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5040-D66A-4ACA-A0B0-D2D37093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246B6-2BF2-441C-944D-D3A88176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96E2-6178-4C4F-8D71-82970A9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63FE-70DC-46F0-A27C-7399D0A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59D08-7D33-4387-A06C-18AD8B2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71C5-0EA5-469F-81DB-061572D0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2C4B-840A-40FE-8393-49D4367D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16D-85A6-40DC-A346-54EFB976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57F6D-DB6C-4E8C-9442-A91830AC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15FB4-D851-4D59-A997-20EFD2B3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0F07C-49AE-40A4-975D-F867D285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51C2-2E24-4A05-A1EC-AF54C3F9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A90C7-AE6D-4F40-B8D3-51D87754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1C475-48D0-464D-95E3-FC938B82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0BE1-024C-468A-83A2-5B99C116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4C6E9-E1C5-4C57-83D4-EC2C487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6FC50-A191-41A6-AAB2-7BB7B396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9B5A-4B96-49D7-B75C-18D57B0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4EC-2DA7-42AF-9208-42AE9F0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BF952-9535-44F9-976F-6D75E46F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3395B-DD3E-4FDB-825F-23A73D7A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0A161-D7B6-4733-B595-DFE75684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E2C2B-B245-40E6-A106-3B04D86D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7C15B-076B-4143-9DD3-094C75D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DBD1-6691-4C73-B484-3D9DEA97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FFB97-35D6-43EA-BF08-0EEEAAB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2CCE9-0BEF-4887-94FC-477374F0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18EC-85DE-47D5-81CE-0696BA3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5F3B-BBA8-4BE2-96F1-3207F6C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2B2-0B91-48ED-B809-657B31A9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D24CA-4979-4DBE-B3E2-BC76641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BB0C-F43E-45EA-8B8A-3581AB2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67249-1A72-43E2-8677-7B13BB2D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A980E-FCAA-4C42-835A-96DC73DC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A449-0788-4070-A00F-73B20C78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3F0AB-933D-455D-B797-3C289F5C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8117-3D43-445A-B2AA-04F04232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D7ED4-97C0-423A-90CD-A9A7179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EA49-01B2-4308-8CE0-46B66DED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39367-3C19-4B02-88BD-B4B960F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462-76A2-4052-AFEA-7CEE035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1DAC6-B621-4C87-BCD7-63FE8A7A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0378D-34E3-4BAC-86E5-D8CB9ED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F3A68-7C0E-4BE4-95E4-AE29FA4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7009B-1E07-467E-A486-C57E820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4E0E-E373-48EA-9193-6EC2A767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93E2F-AD57-4B33-8695-0B2E2BA2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9312-8FC4-47A2-B98E-4BE28294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B681D-3654-4CFE-AEC3-DAFC3B7A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0725D-1B1C-467C-8390-689049F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0F8F-6C42-4995-9146-44E3F3C5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3F3-C056-43AC-AAE2-C76727D1B4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7FDF-2C7C-4376-AD97-DBDD7FC5AE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8721-C03A-4212-BB08-37254607AE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A1A-532F-424F-8038-1B5D21AEC0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7E88-6876-4E99-864C-13099287F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4941-9D90-4D22-9EFA-6FA1494AE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286B-E07B-4541-8BEA-0FD051C8E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6DDC-9A7F-41C5-8BCC-0538127E7C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EC4-E01B-409D-A8F0-99FFD0ABA5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6A95-89A6-4F60-AB92-63C789B609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EC3E-8622-4438-9E52-95CF1A0B6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9E35-14CD-40F0-B279-9A17B7C47C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7C0A-2DF8-4DE3-A95B-9FC25130CC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0C4-DD53-478F-8F73-DA93C11BA0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D093-2D09-4FE7-B144-F0F5E24B2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CCC6-902C-42DA-A51A-D7B69E71E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CC6E-DECA-451D-BC75-1C32BA675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A71-062A-4D0C-AFC6-AA95E0655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F43-147D-4E58-A5FA-13301B6BDD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16AC-B692-4EDC-9E2B-7E59C8EE2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3B5E-BB6D-4CEB-8B20-264A6738D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A618-642F-4F0B-A838-CDA21C054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E3E-3470-4040-8A16-B5B00F934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236-8C26-43D4-93C8-1C53AC7EC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1EBB-E618-4A14-A5C9-21B9B42B49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646-B753-49F0-9C3B-7210ECB1F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DCD-6E8B-4198-B837-89F70B0FB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F226-1A0E-4624-8259-5852D5D906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9B3-C54D-451A-87F7-4A37BAC1E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122-CBA4-475C-BAA5-3F1334E39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51E-7BBC-449D-A36C-6ACB3D3035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A44B-12E3-4FE2-9EC1-8BE1212419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8F14-5E9E-4F28-851B-4EB82D95E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A89-1058-454D-AA42-B6AF94C4B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5339-F3E4-4279-9C58-63C5C25AD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4144-F0D9-4E8D-8B37-E5EF54CA4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0608-9667-4A97-BD5E-390050FCE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2E3-FED8-448F-94BB-17C51CF46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C2B-BD70-4A85-915C-E569953EA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39C-7FF3-46AF-8E01-602F32E78C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A584-6E92-4E14-9B4B-129FA6718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E432-CD77-45A5-801F-CBF8C293CB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C67-2012-4DA7-A7BA-DE65A73A6B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0404-8C14-4E61-88AA-D69826EABD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1F2-A765-4B01-B21F-77D4D2C32A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7699-274A-456B-8D82-12564235F3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9ED6-2F43-43C2-A1B1-811C0665AD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54AD-A951-4910-A66F-4244041573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048F-D100-40E5-A22B-1ADA86AC1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A8E-E027-41FA-B9BA-2C89FBE9DC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809720" y="2905200"/>
            <a:ext cx="5524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6737" descr=""/>
          <p:cNvPicPr/>
          <p:nvPr/>
        </p:nvPicPr>
        <p:blipFill>
          <a:blip r:embed="rId1"/>
          <a:stretch/>
        </p:blipFill>
        <p:spPr>
          <a:xfrm>
            <a:off x="528480" y="1947960"/>
            <a:ext cx="80870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5713" descr=""/>
          <p:cNvPicPr/>
          <p:nvPr/>
        </p:nvPicPr>
        <p:blipFill>
          <a:blip r:embed="rId1"/>
          <a:stretch/>
        </p:blipFill>
        <p:spPr>
          <a:xfrm>
            <a:off x="557280" y="1271520"/>
            <a:ext cx="8029440" cy="431496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5714"/>
          <p:cNvSpPr/>
          <p:nvPr/>
        </p:nvSpPr>
        <p:spPr>
          <a:xfrm>
            <a:off x="906480" y="1803240"/>
            <a:ext cx="14637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5715"/>
          <p:cNvSpPr/>
          <p:nvPr/>
        </p:nvSpPr>
        <p:spPr>
          <a:xfrm>
            <a:off x="912960" y="2286000"/>
            <a:ext cx="7597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6"/>
          <p:cNvSpPr/>
          <p:nvPr/>
        </p:nvSpPr>
        <p:spPr>
          <a:xfrm>
            <a:off x="884160" y="2790720"/>
            <a:ext cx="7597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5717"/>
          <p:cNvSpPr/>
          <p:nvPr/>
        </p:nvSpPr>
        <p:spPr>
          <a:xfrm>
            <a:off x="846000" y="3276720"/>
            <a:ext cx="759780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5718"/>
          <p:cNvSpPr/>
          <p:nvPr/>
        </p:nvSpPr>
        <p:spPr>
          <a:xfrm>
            <a:off x="893880" y="3753000"/>
            <a:ext cx="759780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5719"/>
          <p:cNvSpPr/>
          <p:nvPr/>
        </p:nvSpPr>
        <p:spPr>
          <a:xfrm>
            <a:off x="884160" y="4238640"/>
            <a:ext cx="7597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5720"/>
          <p:cNvSpPr/>
          <p:nvPr/>
        </p:nvSpPr>
        <p:spPr>
          <a:xfrm>
            <a:off x="884160" y="4743360"/>
            <a:ext cx="7597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5721"/>
          <p:cNvSpPr/>
          <p:nvPr/>
        </p:nvSpPr>
        <p:spPr>
          <a:xfrm>
            <a:off x="855720" y="5219640"/>
            <a:ext cx="7597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4689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296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366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020080" cy="532440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3666"/>
          <p:cNvSpPr/>
          <p:nvPr/>
        </p:nvSpPr>
        <p:spPr>
          <a:xfrm>
            <a:off x="1116000" y="3537000"/>
            <a:ext cx="71121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67"/>
          <p:cNvSpPr/>
          <p:nvPr/>
        </p:nvSpPr>
        <p:spPr>
          <a:xfrm>
            <a:off x="1144440" y="4022640"/>
            <a:ext cx="71121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68"/>
          <p:cNvSpPr/>
          <p:nvPr/>
        </p:nvSpPr>
        <p:spPr>
          <a:xfrm>
            <a:off x="1154160" y="4508640"/>
            <a:ext cx="711180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3669"/>
          <p:cNvSpPr/>
          <p:nvPr/>
        </p:nvSpPr>
        <p:spPr>
          <a:xfrm>
            <a:off x="1154160" y="5013360"/>
            <a:ext cx="7111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3670"/>
          <p:cNvSpPr/>
          <p:nvPr/>
        </p:nvSpPr>
        <p:spPr>
          <a:xfrm>
            <a:off x="1125360" y="5489640"/>
            <a:ext cx="71121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71"/>
          <p:cNvSpPr/>
          <p:nvPr/>
        </p:nvSpPr>
        <p:spPr>
          <a:xfrm>
            <a:off x="1087560" y="5985000"/>
            <a:ext cx="711180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2641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743960" cy="1542960"/>
          </a:xfrm>
          <a:prstGeom prst="rect">
            <a:avLst/>
          </a:prstGeom>
          <a:ln w="0">
            <a:noFill/>
          </a:ln>
        </p:spPr>
      </p:pic>
      <p:pic>
        <p:nvPicPr>
          <p:cNvPr id="1482" name="图片 112642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7886880" cy="267660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2643"/>
          <p:cNvSpPr/>
          <p:nvPr/>
        </p:nvSpPr>
        <p:spPr>
          <a:xfrm>
            <a:off x="1049400" y="1746360"/>
            <a:ext cx="71690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2644"/>
          <p:cNvSpPr/>
          <p:nvPr/>
        </p:nvSpPr>
        <p:spPr>
          <a:xfrm>
            <a:off x="1049400" y="2241720"/>
            <a:ext cx="71690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2645"/>
          <p:cNvSpPr/>
          <p:nvPr/>
        </p:nvSpPr>
        <p:spPr>
          <a:xfrm>
            <a:off x="1087560" y="4651200"/>
            <a:ext cx="71690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6"/>
          <p:cNvSpPr/>
          <p:nvPr/>
        </p:nvSpPr>
        <p:spPr>
          <a:xfrm>
            <a:off x="1058760" y="5146560"/>
            <a:ext cx="7169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2647"/>
          <p:cNvSpPr/>
          <p:nvPr/>
        </p:nvSpPr>
        <p:spPr>
          <a:xfrm>
            <a:off x="1020600" y="5651640"/>
            <a:ext cx="716940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1617" descr=""/>
          <p:cNvPicPr/>
          <p:nvPr/>
        </p:nvPicPr>
        <p:blipFill>
          <a:blip r:embed="rId1"/>
          <a:stretch/>
        </p:blipFill>
        <p:spPr>
          <a:xfrm>
            <a:off x="404640" y="692280"/>
            <a:ext cx="8229600" cy="606744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8"/>
          <p:cNvSpPr/>
          <p:nvPr/>
        </p:nvSpPr>
        <p:spPr>
          <a:xfrm>
            <a:off x="1049400" y="541332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19"/>
          <p:cNvSpPr/>
          <p:nvPr/>
        </p:nvSpPr>
        <p:spPr>
          <a:xfrm>
            <a:off x="1068480" y="591804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0"/>
          <p:cNvSpPr/>
          <p:nvPr/>
        </p:nvSpPr>
        <p:spPr>
          <a:xfrm>
            <a:off x="1049400" y="640404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0593" descr=""/>
          <p:cNvPicPr/>
          <p:nvPr/>
        </p:nvPicPr>
        <p:blipFill>
          <a:blip r:embed="rId1"/>
          <a:stretch/>
        </p:blipFill>
        <p:spPr>
          <a:xfrm>
            <a:off x="528480" y="2038320"/>
            <a:ext cx="8087040" cy="278136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10594"/>
          <p:cNvSpPr/>
          <p:nvPr/>
        </p:nvSpPr>
        <p:spPr>
          <a:xfrm>
            <a:off x="1068480" y="2765520"/>
            <a:ext cx="7512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0595"/>
          <p:cNvSpPr/>
          <p:nvPr/>
        </p:nvSpPr>
        <p:spPr>
          <a:xfrm>
            <a:off x="1039680" y="3279600"/>
            <a:ext cx="7512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0596"/>
          <p:cNvSpPr/>
          <p:nvPr/>
        </p:nvSpPr>
        <p:spPr>
          <a:xfrm>
            <a:off x="1011240" y="3784680"/>
            <a:ext cx="7512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0597"/>
          <p:cNvSpPr/>
          <p:nvPr/>
        </p:nvSpPr>
        <p:spPr>
          <a:xfrm>
            <a:off x="963720" y="4289400"/>
            <a:ext cx="75121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09569" descr=""/>
          <p:cNvPicPr/>
          <p:nvPr/>
        </p:nvPicPr>
        <p:blipFill>
          <a:blip r:embed="rId1"/>
          <a:stretch/>
        </p:blipFill>
        <p:spPr>
          <a:xfrm>
            <a:off x="495360" y="1666800"/>
            <a:ext cx="8153280" cy="352440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09570"/>
          <p:cNvSpPr/>
          <p:nvPr/>
        </p:nvSpPr>
        <p:spPr>
          <a:xfrm>
            <a:off x="992160" y="249876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1"/>
          <p:cNvSpPr/>
          <p:nvPr/>
        </p:nvSpPr>
        <p:spPr>
          <a:xfrm>
            <a:off x="982800" y="299412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9572"/>
          <p:cNvSpPr/>
          <p:nvPr/>
        </p:nvSpPr>
        <p:spPr>
          <a:xfrm>
            <a:off x="992160" y="351792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73"/>
          <p:cNvSpPr/>
          <p:nvPr/>
        </p:nvSpPr>
        <p:spPr>
          <a:xfrm>
            <a:off x="1001880" y="401328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9574"/>
          <p:cNvSpPr/>
          <p:nvPr/>
        </p:nvSpPr>
        <p:spPr>
          <a:xfrm>
            <a:off x="982800" y="4498920"/>
            <a:ext cx="75024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30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24800" cy="362916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124931" descr=""/>
          <p:cNvPicPr/>
          <p:nvPr/>
        </p:nvPicPr>
        <p:blipFill>
          <a:blip r:embed="rId2"/>
          <a:stretch/>
        </p:blipFill>
        <p:spPr>
          <a:xfrm>
            <a:off x="276120" y="4381560"/>
            <a:ext cx="8506080" cy="232416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2"/>
          <p:cNvSpPr/>
          <p:nvPr/>
        </p:nvSpPr>
        <p:spPr>
          <a:xfrm>
            <a:off x="3240000" y="2413080"/>
            <a:ext cx="67320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3"/>
          <p:cNvSpPr/>
          <p:nvPr/>
        </p:nvSpPr>
        <p:spPr>
          <a:xfrm>
            <a:off x="7122960" y="2438280"/>
            <a:ext cx="67320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4"/>
          <p:cNvSpPr/>
          <p:nvPr/>
        </p:nvSpPr>
        <p:spPr>
          <a:xfrm>
            <a:off x="1147680" y="3216240"/>
            <a:ext cx="67320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5"/>
          <p:cNvSpPr/>
          <p:nvPr/>
        </p:nvSpPr>
        <p:spPr>
          <a:xfrm>
            <a:off x="5799240" y="4019400"/>
            <a:ext cx="111132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6"/>
          <p:cNvSpPr/>
          <p:nvPr/>
        </p:nvSpPr>
        <p:spPr>
          <a:xfrm>
            <a:off x="4532400" y="4791240"/>
            <a:ext cx="111132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7"/>
          <p:cNvSpPr/>
          <p:nvPr/>
        </p:nvSpPr>
        <p:spPr>
          <a:xfrm>
            <a:off x="5037120" y="5181480"/>
            <a:ext cx="158760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8"/>
          <p:cNvSpPr/>
          <p:nvPr/>
        </p:nvSpPr>
        <p:spPr>
          <a:xfrm>
            <a:off x="4494240" y="5591160"/>
            <a:ext cx="67320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9"/>
          <p:cNvSpPr/>
          <p:nvPr/>
        </p:nvSpPr>
        <p:spPr>
          <a:xfrm>
            <a:off x="6523200" y="6372360"/>
            <a:ext cx="67284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3905" descr=""/>
          <p:cNvPicPr/>
          <p:nvPr/>
        </p:nvPicPr>
        <p:blipFill>
          <a:blip r:embed="rId1"/>
          <a:stretch/>
        </p:blipFill>
        <p:spPr>
          <a:xfrm>
            <a:off x="314280" y="1204920"/>
            <a:ext cx="8515440" cy="44481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3906"/>
          <p:cNvSpPr/>
          <p:nvPr/>
        </p:nvSpPr>
        <p:spPr>
          <a:xfrm>
            <a:off x="8202600" y="3774960"/>
            <a:ext cx="36828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288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316224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122882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420040" cy="231444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3"/>
          <p:cNvSpPr/>
          <p:nvPr/>
        </p:nvSpPr>
        <p:spPr>
          <a:xfrm>
            <a:off x="8202600" y="2098800"/>
            <a:ext cx="36828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2884"/>
          <p:cNvSpPr/>
          <p:nvPr/>
        </p:nvSpPr>
        <p:spPr>
          <a:xfrm>
            <a:off x="8151840" y="4981680"/>
            <a:ext cx="37764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21857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34160" cy="306720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1858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8439120" cy="18669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59"/>
          <p:cNvSpPr/>
          <p:nvPr/>
        </p:nvSpPr>
        <p:spPr>
          <a:xfrm>
            <a:off x="8164440" y="2174760"/>
            <a:ext cx="33012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1860"/>
          <p:cNvSpPr/>
          <p:nvPr/>
        </p:nvSpPr>
        <p:spPr>
          <a:xfrm>
            <a:off x="8151840" y="4286160"/>
            <a:ext cx="30168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20833" descr=""/>
          <p:cNvPicPr/>
          <p:nvPr/>
        </p:nvPicPr>
        <p:blipFill>
          <a:blip r:embed="rId1"/>
          <a:stretch/>
        </p:blipFill>
        <p:spPr>
          <a:xfrm>
            <a:off x="314280" y="2243160"/>
            <a:ext cx="8515440" cy="237168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0834"/>
          <p:cNvSpPr/>
          <p:nvPr/>
        </p:nvSpPr>
        <p:spPr>
          <a:xfrm>
            <a:off x="5192640" y="2346480"/>
            <a:ext cx="36828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9809" descr=""/>
          <p:cNvPicPr/>
          <p:nvPr/>
        </p:nvPicPr>
        <p:blipFill>
          <a:blip r:embed="rId1"/>
          <a:stretch/>
        </p:blipFill>
        <p:spPr>
          <a:xfrm>
            <a:off x="314280" y="762120"/>
            <a:ext cx="8515440" cy="533376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9810"/>
          <p:cNvSpPr/>
          <p:nvPr/>
        </p:nvSpPr>
        <p:spPr>
          <a:xfrm>
            <a:off x="8126280" y="2346480"/>
            <a:ext cx="36828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9811"/>
          <p:cNvSpPr/>
          <p:nvPr/>
        </p:nvSpPr>
        <p:spPr>
          <a:xfrm>
            <a:off x="8123400" y="4657680"/>
            <a:ext cx="3585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8785" descr=""/>
          <p:cNvPicPr/>
          <p:nvPr/>
        </p:nvPicPr>
        <p:blipFill>
          <a:blip r:embed="rId1"/>
          <a:stretch/>
        </p:blipFill>
        <p:spPr>
          <a:xfrm>
            <a:off x="324000" y="1347840"/>
            <a:ext cx="8496000" cy="416232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8786"/>
          <p:cNvSpPr/>
          <p:nvPr/>
        </p:nvSpPr>
        <p:spPr>
          <a:xfrm>
            <a:off x="8126280" y="1784520"/>
            <a:ext cx="36828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8787"/>
          <p:cNvSpPr/>
          <p:nvPr/>
        </p:nvSpPr>
        <p:spPr>
          <a:xfrm>
            <a:off x="8161200" y="4086360"/>
            <a:ext cx="32076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776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096400" cy="569592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7762"/>
          <p:cNvSpPr/>
          <p:nvPr/>
        </p:nvSpPr>
        <p:spPr>
          <a:xfrm>
            <a:off x="7754760" y="1336680"/>
            <a:ext cx="387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2:4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